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90DA-6554-45D4-B519-E8EEE95FC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A7F4-6ADB-48E5-B337-0201EF9EF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neurosciencenews.com/neuronal-diversity-vital-brain-functio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7CA3-763D-49DB-94DC-44E86A00C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sciencegeek.net/Biology/review/U8Homeostasis.htm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receptor, afferent neuron, interneuron, efferent neuron, effector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Khan academ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s://www.khanacademy.org/science/health-and-medicine/nervous-system-and-sensory-infor/neuron-membrane-potentials-2014-03-27T17:58:17.207Z/v/neuron-resting-potential-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A194-12E1-4C09-B28A-83EB8791B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n left: http://www.feelingsoulgood.com/wp-content/uploads/2014/10/Nervous-system-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n right: http://i.imgur.com/x5m17Qb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8CC1-B654-47F9-A75B-E2EFD6656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D028-71FF-49B8-BA91-34DA3FD2D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en.wikipedia.org/wiki/Nervous_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IC controls skeletal muscle, bones,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ic division is VOLU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ed of SENSORY nerves (relay information about env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to the CNS) and MOTOR nerves (initiate the appropriate respon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924F-A549-4C15-BCB6-CB9C99391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www.biologyreference.com/photos/neuron-3761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FE01-5BF6-49C1-B6B7-E412090A1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www.slideshare.net/racheleasaw/fbiology-form-5chp-3-coordination-and-response3-2-the-role-of-the-human-nervous-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6908-B022-41A5-8159-45CFEA1E1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A360-0E0B-4C81-B80E-CA8A13697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mikerbio.weebly.com/uploads/3/0/8/1/30813293/547482430.jpg?9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s://qph.is.quoracdn.net/main-qimg-408c8c4cfd55c3098df4edbdae8a8a6d?convert_to_webp=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0E53-9251-49C4-9678-27E9B7741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4C5E-7AD8-4F52-9FEA-4ABDF3964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www.highlands.edu/academics/divisions/scipe/biology/faculty/harnden/2121/images/neuroglialpn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B88B-64E7-4622-A258-A4E52AE28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4624-4704-464D-8A8A-4C29C699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6690-730C-4D67-A336-99E900A5E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5FE2-3762-4DE6-9D91-8E06CA225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2F24-44EE-4D20-B632-AA10B9C0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A28B-5449-4681-A863-0E6D66E1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7529-6F30-4ED3-A6C9-A0394FDD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9416-BD67-4003-9EC0-F3F20954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B322-0F4F-4A18-9ADC-CCDE2F35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96D4-D9C2-4DEC-A981-EEFF51A5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3DBF-1FCA-47F1-BEF8-6160B0C6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6F9E-AD9A-47A1-9C09-D3295D84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858B-9481-4C25-B8BE-82A413121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khanacademy.org/science/health-and-medicine/nervous-system-and-sensory-infor/neuron-membrane-potentials-2014-03-27T17:58:17.207Z/v/neuron-resting-potential-description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0200" y="2590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Role of the Nervous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4211640" y="55166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x A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al circuit that travels through the spinal cord, but does not require the coordination of the brain, e.g., reflex when you touch something ho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Content Placeholder 6" descr="ReflexArc.jpg"/>
          <p:cNvPicPr/>
          <p:nvPr/>
        </p:nvPicPr>
        <p:blipFill>
          <a:blip r:embed="rId1"/>
          <a:srcRect l="0" t="-11203" r="0" b="-11203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rve Trans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epare for 11.2, which details how nerve impulses are transmitted, let’s visit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han Academ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 watch the “Neuron resting potential” and “Neuron action potential description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rvous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Content Placeholder 8" descr="Nervous-system-.jpg"/>
          <p:cNvPicPr/>
          <p:nvPr/>
        </p:nvPicPr>
        <p:blipFill>
          <a:blip r:embed="rId1"/>
          <a:srcRect l="3704" t="0" r="3704" b="0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7" descr="x5m17Qb.png"/>
          <p:cNvPicPr/>
          <p:nvPr/>
        </p:nvPicPr>
        <p:blipFill>
          <a:blip r:embed="rId2"/>
          <a:srcRect l="-11722" t="0" r="-11722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450px-NSdiagram"/>
          <p:cNvPicPr/>
          <p:nvPr/>
        </p:nvPicPr>
        <p:blipFill>
          <a:blip r:embed="rId1"/>
          <a:stretch/>
        </p:blipFill>
        <p:spPr>
          <a:xfrm>
            <a:off x="1244520" y="609480"/>
            <a:ext cx="6654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ized nerve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units of the nervou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organisms to receive &amp; respond to internal &amp; external stimu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Content Placeholder 6" descr="neuron-3761.jpg"/>
          <p:cNvPicPr/>
          <p:nvPr/>
        </p:nvPicPr>
        <p:blipFill>
          <a:blip r:embed="rId1"/>
          <a:srcRect l="15270" t="0" r="15270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al Signa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ferent neuro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nsory neurons) receive stimu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euro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n brain &amp; spinal cord) receive messages transmitted from afferent neurons; process messages &amp; determine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e transmitt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rent neuro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otor neurons) and then to eff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ontent Placeholder 3" descr="fbiology-form-5chp-3-coordination-and-response3-2-the-role-of-the-human-nervous-system-35-728.jpg"/>
          <p:cNvPicPr/>
          <p:nvPr/>
        </p:nvPicPr>
        <p:blipFill>
          <a:blip r:embed="rId1"/>
          <a:srcRect l="0" t="2042" r="0" b="2042"/>
          <a:stretch/>
        </p:blipFill>
        <p:spPr>
          <a:xfrm>
            <a:off x="539640" y="476280"/>
            <a:ext cx="82090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Neu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Content Placeholder 2" descr="547482430.jpg"/>
          <p:cNvPicPr/>
          <p:nvPr/>
        </p:nvPicPr>
        <p:blipFill>
          <a:blip r:embed="rId1"/>
          <a:srcRect l="0" t="-8601" r="0" b="-860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rve Fib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Content Placeholder 8" descr="main-qimg-408c8c4cfd55c3098df4edbdae8a8a6d.png"/>
          <p:cNvPicPr/>
          <p:nvPr/>
        </p:nvPicPr>
        <p:blipFill>
          <a:blip r:embed="rId1"/>
          <a:srcRect l="-81834" t="0" r="-81834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on Support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lial ce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ide nutrition and support, e.g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wann cells for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yelin sheath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surround and insulate ax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ps are call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des of Ranv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Content Placeholder 2" descr="neuroglialpns.jpg"/>
          <p:cNvPicPr/>
          <p:nvPr/>
        </p:nvPicPr>
        <p:blipFill>
          <a:blip r:embed="rId1"/>
          <a:srcRect l="-33607" t="0" r="-33607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6T10:01:39Z</dcterms:created>
  <dc:creator>rubina khan</dc:creator>
  <dc:description/>
  <dc:language>en-US</dc:language>
  <cp:lastModifiedBy>rubina khan</cp:lastModifiedBy>
  <dcterms:modified xsi:type="dcterms:W3CDTF">2017-05-10T12:29:14Z</dcterms:modified>
  <cp:revision>135</cp:revision>
  <dc:subject/>
  <dc:title>The Importance of the Nervous System</dc:title>
</cp:coreProperties>
</file>